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A54-8B00-4F4A-9DAD-6F0957DA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4E7-196A-4481-899D-4C58BD15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EA5-70BA-4F6A-BECB-206BE6D6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6C8-8AFF-4310-B08E-4CCF43DB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6529-C770-408B-976F-80457A7E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FED2-AC8E-404A-B71A-9AED5424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F041-C35B-49AA-8485-8642959C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5967-4A53-4799-A753-DC00D400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F94F-36C4-4211-93B7-ADE922D2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EF5C-50DD-4E25-889D-8F439F77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49B4-63B1-4A99-8E95-E9CD92D3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D14-7ABA-4A0F-B265-A7BFDDC6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228A-089A-4B87-B25A-4A0212F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9046-1041-4278-B7E4-58691DE4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633D-D48E-4DE1-B769-53A7A9AA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7006-8963-4132-8609-1C0D31D3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2993-1AB0-4432-B107-6E1EDEF7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78C9F-A8BA-4DDE-A0A4-B287E9FF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2DF27-BCA2-432F-A5F5-D5B779A1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02809-468A-490E-8A88-F3D0D013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C82F3-FAE0-4B30-9DD3-E4A20DE8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A7070-B92E-416A-8141-AB2AC457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FFB-D0EF-4E7E-8DF7-8AE1D4F9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96ED3-465E-46CF-AC6B-EFCD6240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CD0DB-9674-46C6-A419-9275AD59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22EA5-1B93-4173-A0C0-07D0A60F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EA608-9A53-430D-88F1-CE24FE57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96CBD-007D-44EB-8A2D-E9DFE857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D8F10-403E-4DF4-9687-169DB4B9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6F8DB-ECF9-451C-A82F-77A6C5DA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2AF18-DF11-47C0-A8B7-F43A6BAD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D7D2F-5D93-474E-A382-D7C65A4D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C6728-18C0-4EA1-8CB3-D4488E04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C28-9680-4BA7-B593-E0C642AE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49288-910D-4088-AC1F-5DE16F2C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9FD85-BFEE-4371-9CAF-DC9EABCD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6131E-CE56-4B04-9229-004F47BF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B3E70-EA75-406C-A427-AF0FC39C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A6837-BD01-4130-B0E0-A965370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5666-4F44-4B5E-A796-0EAF306C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B237F-7EBA-48BD-BDA8-1D263916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9FCE8-B104-416A-8606-69CE9AE7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5D5A4-DA20-4FB5-BEC4-DE70C167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1DF18B-7DAA-42CA-AA63-E8921CB0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475-6079-4178-9B79-1A18BFDF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D1F1D-9A73-4FF6-AE9C-C6ABCFEC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DFD28-3151-48CB-AF62-B04D953F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A3D49-025D-4400-8D9A-BAAE4356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22C24-9D25-4DDC-9C66-E3B0D099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E6ECB-F63C-4517-BC73-2F2954C6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2A0CD-276D-41B4-B8AD-3099813F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00895-0E7C-4A4F-ADA3-2118CB79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73D89-336E-40FD-A509-52615956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8BF28-3706-4A7B-94C7-A76CC75D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6F845-A9EB-4F41-A1EF-504AF3E3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5F9-A999-4E5A-8990-D69AF8A9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C4F9B-C244-4709-AFE6-DAEC9D8A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CAE9E-5246-4C16-85F8-9C550B63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62D3E-721C-490F-880F-4696CBD8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5FE58-3A07-4F0E-9F93-1AA77218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E01CD-B5AA-4B53-8EEA-616823EA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0B527-3418-4DEF-8703-C2AC40C2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F093C-1A6F-4C80-9BC4-21D70996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3FA63-0151-4B02-B632-DD7A26BE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DBF01C-34A6-4A0F-B8C6-90D90A45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726AF-48A4-4B74-AA40-7B33858B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171-475F-4622-8157-0F014E74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21E52-EE9E-4333-90B6-B7825C2D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34DED-78A2-4021-A6D0-D561082C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8BDD3-44BF-4601-B767-B3B2E081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08E79-4938-495A-9748-9D13F6F1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B47BB-96C3-4ECD-9DCC-4D1AC10C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845E11-87AF-4EE7-BD68-562D4D78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4E6BC-3062-44CE-90A9-F62A7FC5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D066B-770B-4925-AE05-686AC6F5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CD8D8-1F97-4453-A9DD-F6C0550B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7D4CF-0283-488A-B9A8-B2BF8ADA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7AE-4746-4775-BB49-6E30ABD9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7C62E5-182C-4B63-8455-3E3F2FD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284157-871A-468F-8FDB-E71F773D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916F5-0C6A-431B-A475-EAE8573B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2FE46-AA3F-4360-AE6B-7E9DEB1E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302C76-5939-4D48-AC97-8ACE8B82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CE1-2DC7-49AB-BCE6-2BFE4372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374B-AF31-4301-B319-8401EE09CF5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9270-744A-49BF-90C7-D423EEFF0EC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0FD1-5F78-4DD5-8936-4276FDC169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CEDE-8A8A-4DC6-8E00-DA029603E08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0007-76EF-4C18-B204-D0D1DFF6BF2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16C5-404A-470C-B4C3-DB09584830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EE9F-E3F1-4649-9A23-934D8F8873C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75f6d"/>
                </a:solidFill>
                <a:latin typeface="Book Antiqua"/>
              </a:rPr>
              <a:t>PIRAMIDA PATRULATER</a:t>
            </a:r>
            <a:r>
              <a:rPr b="1" lang="ro-RO" sz="6600" spc="-1" strike="noStrike">
                <a:solidFill>
                  <a:srgbClr val="575f6d"/>
                </a:solidFill>
                <a:latin typeface="Book Antiqua"/>
              </a:rPr>
              <a:t>Ă</a:t>
            </a:r>
            <a:r>
              <a:rPr b="1" lang="en-US" sz="6600" spc="-1" strike="noStrike">
                <a:solidFill>
                  <a:srgbClr val="575f6d"/>
                </a:solidFill>
                <a:latin typeface="Book Antiqua"/>
              </a:rPr>
              <a:t> REGULAT</a:t>
            </a:r>
            <a:r>
              <a:rPr b="1" lang="ro-RO" sz="6600" spc="-1" strike="noStrike">
                <a:solidFill>
                  <a:srgbClr val="575f6d"/>
                </a:solidFill>
                <a:latin typeface="Book Antiqua"/>
              </a:rPr>
              <a:t>Ă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43200" y="4571640"/>
            <a:ext cx="640080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Grupa 8:     </a:t>
            </a:r>
            <a:r>
              <a:rPr b="1" lang="ro-RO" sz="2400" spc="-1" strike="noStrike">
                <a:solidFill>
                  <a:srgbClr val="575f6d"/>
                </a:solidFill>
                <a:latin typeface="Century Schoolbook"/>
              </a:rPr>
              <a:t>Popovici Casand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                   </a:t>
            </a:r>
            <a:r>
              <a:rPr b="1" lang="ro-RO" sz="24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r>
              <a:rPr b="1" lang="ro-RO" sz="2400" spc="-1" strike="noStrike">
                <a:solidFill>
                  <a:srgbClr val="575f6d"/>
                </a:solidFill>
                <a:latin typeface="Century Schoolbook"/>
              </a:rPr>
              <a:t>Puşcaş Rau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                 </a:t>
            </a:r>
            <a:r>
              <a:rPr b="1" lang="ro-RO" sz="24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o-RO" sz="2400" spc="-1" strike="noStrike">
                <a:solidFill>
                  <a:srgbClr val="575f6d"/>
                </a:solidFill>
                <a:latin typeface="Century Schoolbook"/>
              </a:rPr>
              <a:t>Raţ Bian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900" spc="-1" strike="noStrike">
                <a:solidFill>
                  <a:srgbClr val="575f6d"/>
                </a:solidFill>
                <a:latin typeface="Century Schoolbook"/>
              </a:rPr>
              <a:t>PIRAMIDA PATRULATERĂ REGULATĂ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 Black"/>
              </a:rPr>
              <a:t>DEF</a:t>
            </a:r>
            <a:r>
              <a:rPr b="1" lang="ro-RO" sz="36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ro-RO" sz="2400" spc="-1" strike="noStrike">
                <a:solidFill>
                  <a:srgbClr val="000000"/>
                </a:solidFill>
                <a:latin typeface="Arial Black"/>
              </a:rPr>
              <a:t>Piramida patrulateră regulată este piramida cu baza pătrat şi înălţimea în centrul baze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-500040" y="2643120"/>
            <a:ext cx="12890520" cy="5214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428616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214960" y="428760"/>
            <a:ext cx="3929040" cy="66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Element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o bază, pătr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4 feţe laterale, triunghiuri isosce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4 muchii ale bazei (L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4 muchii laterale (m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o înălţime (H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4 apoteme ale piramidei (a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- 4 apoteme ale bazei (ab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1" descr=""/>
          <p:cNvPicPr/>
          <p:nvPr/>
        </p:nvPicPr>
        <p:blipFill>
          <a:blip r:embed="rId1"/>
          <a:stretch/>
        </p:blipFill>
        <p:spPr>
          <a:xfrm>
            <a:off x="-2214720" y="857160"/>
            <a:ext cx="7715520" cy="556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68596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43400" y="500040"/>
            <a:ext cx="3757320" cy="678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ormul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 </a:t>
            </a:r>
            <a:r>
              <a:rPr b="0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b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 </a:t>
            </a:r>
            <a:r>
              <a:rPr b="0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b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  =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+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L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=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 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T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L + A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Cambria Math"/>
              </a:rPr>
              <a:t>=  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x Ab x 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7429680" y="928800"/>
            <a:ext cx="285480" cy="5364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7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"/>
          <p:cNvPicPr/>
          <p:nvPr/>
        </p:nvPicPr>
        <p:blipFill>
          <a:blip r:embed="rId2"/>
          <a:stretch/>
        </p:blipFill>
        <p:spPr>
          <a:xfrm>
            <a:off x="-2428920" y="1071720"/>
            <a:ext cx="8858160" cy="55623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"/>
          <p:cNvPicPr/>
          <p:nvPr/>
        </p:nvPicPr>
        <p:blipFill>
          <a:blip r:embed="rId3"/>
          <a:stretch/>
        </p:blipFill>
        <p:spPr>
          <a:xfrm>
            <a:off x="7286760" y="1285920"/>
            <a:ext cx="180720" cy="7999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12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3" descr=""/>
          <p:cNvPicPr/>
          <p:nvPr/>
        </p:nvPicPr>
        <p:blipFill>
          <a:blip r:embed="rId4"/>
          <a:stretch/>
        </p:blipFill>
        <p:spPr>
          <a:xfrm>
            <a:off x="6500880" y="2214720"/>
            <a:ext cx="511200" cy="5619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5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8" descr=""/>
          <p:cNvPicPr/>
          <p:nvPr/>
        </p:nvPicPr>
        <p:blipFill>
          <a:blip r:embed="rId5"/>
          <a:stretch/>
        </p:blipFill>
        <p:spPr>
          <a:xfrm>
            <a:off x="7358040" y="2286000"/>
            <a:ext cx="428760" cy="4968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0" descr=""/>
          <p:cNvPicPr/>
          <p:nvPr/>
        </p:nvPicPr>
        <p:blipFill>
          <a:blip r:embed="rId6"/>
          <a:stretch/>
        </p:blipFill>
        <p:spPr>
          <a:xfrm>
            <a:off x="8143920" y="2214720"/>
            <a:ext cx="511200" cy="5619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2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5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8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9" descr=""/>
          <p:cNvPicPr/>
          <p:nvPr/>
        </p:nvPicPr>
        <p:blipFill>
          <a:blip r:embed="rId7"/>
          <a:stretch/>
        </p:blipFill>
        <p:spPr>
          <a:xfrm>
            <a:off x="7072200" y="4714920"/>
            <a:ext cx="276480" cy="86688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31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4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7" descr=""/>
          <p:cNvPicPr/>
          <p:nvPr/>
        </p:nvPicPr>
        <p:blipFill>
          <a:blip r:embed="rId8"/>
          <a:stretch/>
        </p:blipFill>
        <p:spPr>
          <a:xfrm>
            <a:off x="7286760" y="3143160"/>
            <a:ext cx="857160" cy="94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PROBLEM</a:t>
            </a:r>
            <a:r>
              <a:rPr b="0" lang="ro-RO" sz="4000" spc="-1" strike="noStrike">
                <a:solidFill>
                  <a:srgbClr val="575f6d"/>
                </a:solidFill>
                <a:latin typeface="Century Schoolbook"/>
              </a:rPr>
              <a:t>Ă :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13840" y="1213920"/>
            <a:ext cx="8929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Piramida patrulateră regulată VABCD are înălţimea VO=        cm, iar muchia laterală formează cu planul bazei un unghi cu măsura d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. Să se calculeze volumul piramidei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. Să se calculeze aria laterală a piramidei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. Fie 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AD) astfel încât AM = AO ş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{N} = M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ro-RO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BC. Să se calculeze:  1) aria triunghilui VM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) distan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ţa de la A la dreapta M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legere ,,Matematic</a:t>
            </a: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ă pentru evaluarea naţională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”, pag. 132 V8, SIII, P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2" descr=""/>
          <p:cNvPicPr/>
          <p:nvPr/>
        </p:nvPicPr>
        <p:blipFill>
          <a:blip r:embed="rId1"/>
          <a:stretch/>
        </p:blipFill>
        <p:spPr>
          <a:xfrm>
            <a:off x="3071880" y="1643040"/>
            <a:ext cx="657000" cy="5428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8:39:16Z</dcterms:created>
  <dc:creator>Clementine</dc:creator>
  <dc:description/>
  <dc:language>en-US</dc:language>
  <cp:lastModifiedBy>Clementine</cp:lastModifiedBy>
  <dcterms:modified xsi:type="dcterms:W3CDTF">2011-02-12T18:17:38Z</dcterms:modified>
  <cp:revision>19</cp:revision>
  <dc:subject/>
  <dc:title>Piramida patrulateră regulată</dc:title>
</cp:coreProperties>
</file>